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4C5-09FF-451D-913E-7ECE3CB8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65F-642D-4472-AEB9-CB41D7A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991-3C03-469F-AC9D-898C5A96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9C6-F520-4684-AED1-3D60138C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86B-BC1E-4871-A187-DA363202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48F-2221-42D9-8BE5-A249676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45F-3609-4FCA-86DA-258F921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0C8-3CFE-4842-B2DB-8746C56C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B17-0AD2-4603-B67B-058BFC5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E75-67B0-4D9F-B48A-90C9497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BA5-9B23-4C70-9851-C4D8F5C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D8C-B087-428B-AB97-7E222EF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48B2-AEE7-4052-8811-284D37EF3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239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5:23Z</dcterms:modified>
  <cp:revision>206</cp:revision>
  <dc:subject/>
  <dc:title>Slide 1</dc:title>
</cp:coreProperties>
</file>